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6A1-9948-4F3B-9C2C-D18A17FF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174-7D7F-4F6A-92E6-25209943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7B6-829A-43B7-A476-0DDB83FC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511-38EE-4E6E-9652-977BF4B3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E39-9AD1-4561-860C-195EE2C6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555-3614-484D-93BE-7C53E028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401-33C9-4AB0-AEE7-8D6E6578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EC23-F8D4-4BAE-AF4F-92C475B6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58D-EA02-4BCE-8176-66DEC13D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8E3-B950-4D78-ABBB-DEC98382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FBF-5235-4DAC-8FB9-C7C76E6C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197-6F96-4C82-8BE6-0947B5A8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B0DA-14BD-4FA5-8472-A6283C4200A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23880" y="2057400"/>
            <a:ext cx="6096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BAŞ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sim 2" descr="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sim 1" descr=""/>
          <p:cNvPicPr/>
          <p:nvPr/>
        </p:nvPicPr>
        <p:blipFill>
          <a:blip r:embed="rId1"/>
          <a:stretch/>
        </p:blipFill>
        <p:spPr>
          <a:xfrm>
            <a:off x="-38160" y="-152280"/>
            <a:ext cx="9220320" cy="7010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05:54:15Z</dcterms:created>
  <dc:creator>part-time</dc:creator>
  <dc:description/>
  <dc:language>en-US</dc:language>
  <cp:lastModifiedBy>AKADEMİSYEN</cp:lastModifiedBy>
  <dcterms:modified xsi:type="dcterms:W3CDTF">2023-03-16T13:04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